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705D-4D84-4BD4-9B1A-007160C8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D644-53A1-4D51-9674-A0FC49C8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1D99-8A58-44CC-9F9C-AC75838F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BEE7-9E9C-43F2-97D8-DC4422D5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6CE6-5260-47DE-8723-DC9A6D34A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6528-FEFC-4E4E-BEC0-D492E2D1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B459-FD71-44F1-B96C-5A335083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044E-5BCA-4206-BC54-9A39AEB9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D7C4-3E37-4F37-B98E-C33899CE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0F43-11E2-4449-AF07-ABAA3E5D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E117-6CB8-4C14-9DE5-2EDA41C4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4F6B-896E-41DA-B3B9-FD52AEFA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C02D-048C-4F61-9C33-23ABD76A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9A90-C460-4C0D-871E-D234CD06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477F-896E-4EE8-89ED-5125592A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513E-5E7E-4B8C-A9CF-E0F814E5B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EE8D-3C13-4E5C-B108-5D385573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28173-B03F-452E-BEB9-D6AB0D23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A9958-A2D3-422C-B05C-D4AF3D87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EA94B-66C0-4EBB-B5A7-365F3D97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14269-9AFA-406B-AD8D-CC1AF54B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B9561-50A9-478A-86B0-E028E2F7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68D3-1593-45B3-9CDA-2CD1C968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2A5DE-D9DD-4B29-8094-C0E02958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9348F-8AB6-4D2D-8DD4-9AD1399F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3D735-4795-4A03-8A2E-25BD9C71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2EC98-7CAC-47ED-BED2-832C66BB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2321E-351E-4646-BE08-968A098D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873DF-52E5-471F-91B5-9F9E3FEF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49C13-C338-4EA5-BD9D-91CBF297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0B4F1-B531-4C4B-A1B6-CE8A03EC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C9FE7-67E0-4761-BB53-A41FE769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E60D1-5542-41FF-AEFF-FB331068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6732-284A-41B9-88B0-F130AF0E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5F13C-BAFA-4C2B-8ABD-98C5B69B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C2C45-AB86-4F95-82D4-CEE4E565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9D07E-ED4E-4FBA-825C-3679A16F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DE88B-7480-402A-9F34-B1ED6246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37017-B360-4186-82D5-41E399C3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36CF3-6D34-4796-8AA0-08D4B1E9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DAD21-2681-409D-9A3B-40152224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9847F-5DB9-49D7-BBF9-D4492EA5C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E162F-0364-4E3B-AEA6-0AB90452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7125-5FA6-4B26-B73A-92B3C9F1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74AA-3231-415B-BAEB-DCA635CE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9678-B8A6-4C1B-B3A0-E6B5B657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4AAE-BB93-4C9A-B343-E51F8F66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E2AE-B591-4995-AA0F-25FA5716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 liv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orma liv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079B-FB08-4807-8C8C-B5773F24A0C7}" type="slidenum">
              <a:rPr b="0" lang="pt-B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a liv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orma livre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a liv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orma liv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a liv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orma livre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4A0F-A075-43D2-88AF-0BD3B95214C7}" type="slidenum">
              <a:rPr b="0" lang="pt-B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a liv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orma liv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a liv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orma livre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6FB9-1D62-421C-B259-9D88C057E390}" type="slidenum">
              <a:rPr b="0" lang="pt-B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tângulo com Único Canto Aparado e Arredondado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Triângulo retângulo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orma livre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orma livre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D778-B9C3-4CF0-892F-7819D62E699C}" type="slidenum">
              <a:rPr b="0" lang="pt-B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youtube.com/watch?v=FmidSbKhTsg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ítulo 1" descr=""/>
          <p:cNvPicPr/>
          <p:nvPr/>
        </p:nvPicPr>
        <p:blipFill>
          <a:blip r:embed="rId1"/>
          <a:stretch/>
        </p:blipFill>
        <p:spPr>
          <a:xfrm>
            <a:off x="457200" y="1365120"/>
            <a:ext cx="8485200" cy="18957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nstantia"/>
              </a:rPr>
              <a:t>Atividade  3.5 – Esboço Inicia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nstantia"/>
              </a:rPr>
              <a:t>Professor: Moisés Rodrigo Galony dos Santo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http://t3.gstatic.com/images?q=tbn:ANd9GcQKjpZJJYUQqbanyccnLIO-YtQOLjdd0GcL3BgcizpzOjnW8G4&amp;t=1&amp;usg=__8j_3jyvjpdaNlHGj8865UEP-uAE="/>
          <p:cNvPicPr/>
          <p:nvPr/>
        </p:nvPicPr>
        <p:blipFill>
          <a:blip r:embed="rId2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ítulo 1" descr=""/>
          <p:cNvPicPr/>
          <p:nvPr/>
        </p:nvPicPr>
        <p:blipFill>
          <a:blip r:embed="rId1"/>
          <a:stretch/>
        </p:blipFill>
        <p:spPr>
          <a:xfrm>
            <a:off x="201600" y="701640"/>
            <a:ext cx="8650440" cy="25592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AutoShape 2"/>
          <p:cNvSpPr/>
          <p:nvPr/>
        </p:nvSpPr>
        <p:spPr>
          <a:xfrm>
            <a:off x="155520" y="-555480"/>
            <a:ext cx="13906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3" descr="C:\Users\Moises\Pictures\phasediagram[1].jpg"/>
          <p:cNvPicPr/>
          <p:nvPr/>
        </p:nvPicPr>
        <p:blipFill>
          <a:blip r:embed="rId2"/>
          <a:stretch/>
        </p:blipFill>
        <p:spPr>
          <a:xfrm>
            <a:off x="1476360" y="3357720"/>
            <a:ext cx="519264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Recursos Digitai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Filmadora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Data Show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Software Windows Movi Maker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Maquina Digital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AutoShape 2"/>
          <p:cNvSpPr/>
          <p:nvPr/>
        </p:nvSpPr>
        <p:spPr>
          <a:xfrm>
            <a:off x="155520" y="-555480"/>
            <a:ext cx="13906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155520" y="-555480"/>
            <a:ext cx="13906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Este projeto foi realizado no período matutino envolvendo a turma do 2º ano B do Ensino Mé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O intuito do projeto é propiciar aos alunos  o conhecimento sobre a influencia da pressão sobre a temperatura, foi proposto a eles que as atividades podiam ser desenvolvidas em forma de víde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Imagem 3" descr="dsc00006[1].jpg"/>
          <p:cNvPicPr/>
          <p:nvPr/>
        </p:nvPicPr>
        <p:blipFill>
          <a:blip r:embed="rId1"/>
          <a:stretch/>
        </p:blipFill>
        <p:spPr>
          <a:xfrm>
            <a:off x="971640" y="4437000"/>
            <a:ext cx="2840040" cy="2130480"/>
          </a:xfrm>
          <a:prstGeom prst="rect">
            <a:avLst/>
          </a:prstGeom>
          <a:ln w="0">
            <a:noFill/>
          </a:ln>
        </p:spPr>
      </p:pic>
      <p:sp>
        <p:nvSpPr>
          <p:cNvPr id="209" name="Botão de ação: Filme 4">
            <a:hlinkClick r:id="rId2"/>
          </p:cNvPr>
          <p:cNvSpPr/>
          <p:nvPr/>
        </p:nvSpPr>
        <p:spPr>
          <a:xfrm>
            <a:off x="4427640" y="4724280"/>
            <a:ext cx="3240000" cy="1513080"/>
          </a:xfrm>
          <a:custGeom>
            <a:avLst/>
            <a:gdLst>
              <a:gd name="textAreaLeft" fmla="*/ 97920 w 3240000"/>
              <a:gd name="textAreaRight" fmla="*/ 3142080 w 3240000"/>
              <a:gd name="textAreaTop" fmla="*/ 97920 h 1513080"/>
              <a:gd name="textAreaBottom" fmla="*/ 1415160 h 1513080"/>
            </a:gdLst>
            <a:ahLst/>
            <a:rect l="textAreaLeft" t="textAreaTop" r="textAreaRight" b="textAreaBottom"/>
            <a:pathLst>
              <a:path w="46247" h="21600">
                <a:moveTo>
                  <a:pt x="0" y="0"/>
                </a:moveTo>
                <a:lnTo>
                  <a:pt x="46247" y="0"/>
                </a:lnTo>
                <a:lnTo>
                  <a:pt x="46247" y="21600"/>
                </a:lnTo>
                <a:lnTo>
                  <a:pt x="0" y="21600"/>
                </a:lnTo>
                <a:close/>
              </a:path>
              <a:path fill="lightenLess" w="46247" h="21600">
                <a:moveTo>
                  <a:pt x="0" y="0"/>
                </a:moveTo>
                <a:lnTo>
                  <a:pt x="46247" y="0"/>
                </a:lnTo>
                <a:lnTo>
                  <a:pt x="44847" y="1400"/>
                </a:lnTo>
                <a:lnTo>
                  <a:pt x="1400" y="1400"/>
                </a:lnTo>
                <a:close/>
              </a:path>
              <a:path fill="darken" w="46247" h="21600">
                <a:moveTo>
                  <a:pt x="46247" y="0"/>
                </a:moveTo>
                <a:lnTo>
                  <a:pt x="46247" y="21600"/>
                </a:lnTo>
                <a:lnTo>
                  <a:pt x="44847" y="20200"/>
                </a:lnTo>
                <a:lnTo>
                  <a:pt x="44847" y="1400"/>
                </a:lnTo>
                <a:close/>
              </a:path>
              <a:path fill="darkenLess" w="46247" h="21600">
                <a:moveTo>
                  <a:pt x="46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47" y="20200"/>
                </a:lnTo>
                <a:close/>
              </a:path>
              <a:path fill="lighten" w="46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47" h="21600">
                <a:moveTo>
                  <a:pt x="16117" y="7301"/>
                </a:moveTo>
                <a:lnTo>
                  <a:pt x="17031" y="7301"/>
                </a:lnTo>
                <a:lnTo>
                  <a:pt x="17414" y="7667"/>
                </a:lnTo>
                <a:lnTo>
                  <a:pt x="26622" y="7667"/>
                </a:lnTo>
                <a:lnTo>
                  <a:pt x="27179" y="8224"/>
                </a:lnTo>
                <a:lnTo>
                  <a:pt x="27179" y="8772"/>
                </a:lnTo>
                <a:lnTo>
                  <a:pt x="29025" y="8772"/>
                </a:lnTo>
                <a:lnTo>
                  <a:pt x="29390" y="8224"/>
                </a:lnTo>
                <a:lnTo>
                  <a:pt x="30130" y="8224"/>
                </a:lnTo>
                <a:lnTo>
                  <a:pt x="30130" y="13376"/>
                </a:lnTo>
                <a:lnTo>
                  <a:pt x="29390" y="13376"/>
                </a:lnTo>
                <a:lnTo>
                  <a:pt x="29025" y="12828"/>
                </a:lnTo>
                <a:lnTo>
                  <a:pt x="27179" y="12828"/>
                </a:lnTo>
                <a:lnTo>
                  <a:pt x="27179" y="14107"/>
                </a:lnTo>
                <a:lnTo>
                  <a:pt x="17597" y="14107"/>
                </a:lnTo>
                <a:lnTo>
                  <a:pt x="17597" y="9877"/>
                </a:lnTo>
                <a:lnTo>
                  <a:pt x="17414" y="9877"/>
                </a:lnTo>
                <a:lnTo>
                  <a:pt x="17031" y="10243"/>
                </a:lnTo>
                <a:lnTo>
                  <a:pt x="16117" y="10243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4T11:22:56Z</dcterms:created>
  <dc:creator>Moises</dc:creator>
  <dc:description/>
  <dc:language>en-US</dc:language>
  <cp:lastModifiedBy>Moises</cp:lastModifiedBy>
  <dcterms:modified xsi:type="dcterms:W3CDTF">2010-08-14T11:55:15Z</dcterms:modified>
  <cp:revision>4</cp:revision>
  <dc:subject/>
  <dc:title>TICS – TECNOLOGIA INTEGRADAS NA EDUCAÇÃO</dc:title>
</cp:coreProperties>
</file>